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43.png" ContentType="image/png"/>
  <Override PartName="/ppt/media/image166.png" ContentType="image/png"/>
  <Override PartName="/ppt/media/image143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44.png" ContentType="image/png"/>
  <Override PartName="/ppt/media/image151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56.png" ContentType="image/png"/>
  <Override PartName="/ppt/media/image179.png" ContentType="image/png"/>
  <Override PartName="/ppt/media/image85.png" ContentType="image/png"/>
  <Override PartName="/ppt/media/image17.png" ContentType="image/png"/>
  <Override PartName="/ppt/media/image142.png" ContentType="image/png"/>
  <Override PartName="/ppt/media/image55.png" ContentType="image/png"/>
  <Override PartName="/ppt/media/image178.png" ContentType="image/png"/>
  <Override PartName="/ppt/media/image13.png" ContentType="image/png"/>
  <Override PartName="/ppt/media/image81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36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57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56.png" ContentType="image/png"/>
  <Override PartName="/ppt/media/image33.png" ContentType="image/png"/>
  <Override PartName="/ppt/media/image3.png" ContentType="image/png"/>
  <Override PartName="/ppt/media/image155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8ED-4EBC-4CF2-8349-F1894A7C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816-844F-4F0A-8092-19A8428A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510-F12D-4811-A486-A111BBFA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6BF-FD90-4D02-BF3A-DB3AC581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BF5-C3EE-4FD7-9BB1-1A079A2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B0C-D395-4E80-B398-1E01E9F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CF6-CF97-4EA3-927D-7BF95DA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A70-DE88-4DA8-BE91-4A888EA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9CB-C54D-4C2F-ADBA-CAA2288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284-D262-4D59-8D1E-2DB7025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4AD-3EC3-4B14-9134-768A2F0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99D-F8E8-4492-9391-F4C6316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9507-38D6-4319-8B02-76BA002F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vision Properties of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0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image" Target="../media/image125.png"/><Relationship Id="rId7" Type="http://schemas.openxmlformats.org/officeDocument/2006/relationships/image" Target="../media/image126.png"/><Relationship Id="rId8" Type="http://schemas.openxmlformats.org/officeDocument/2006/relationships/image" Target="../media/image127.png"/><Relationship Id="rId9" Type="http://schemas.openxmlformats.org/officeDocument/2006/relationships/image" Target="../media/image128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image" Target="../media/image133.png"/><Relationship Id="rId6" Type="http://schemas.openxmlformats.org/officeDocument/2006/relationships/image" Target="../media/image134.png"/><Relationship Id="rId7" Type="http://schemas.openxmlformats.org/officeDocument/2006/relationships/image" Target="../media/image13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3.png"/><Relationship Id="rId3" Type="http://schemas.openxmlformats.org/officeDocument/2006/relationships/image" Target="../media/image144.png"/><Relationship Id="rId4" Type="http://schemas.openxmlformats.org/officeDocument/2006/relationships/image" Target="../media/image145.png"/><Relationship Id="rId5" Type="http://schemas.openxmlformats.org/officeDocument/2006/relationships/image" Target="../media/image146.png"/><Relationship Id="rId6" Type="http://schemas.openxmlformats.org/officeDocument/2006/relationships/image" Target="../media/image147.png"/><Relationship Id="rId7" Type="http://schemas.openxmlformats.org/officeDocument/2006/relationships/image" Target="../media/image148.png"/><Relationship Id="rId8" Type="http://schemas.openxmlformats.org/officeDocument/2006/relationships/image" Target="../media/image149.png"/><Relationship Id="rId9" Type="http://schemas.openxmlformats.org/officeDocument/2006/relationships/image" Target="../media/image150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5.png"/><Relationship Id="rId3" Type="http://schemas.openxmlformats.org/officeDocument/2006/relationships/image" Target="../media/image155.png"/><Relationship Id="rId4" Type="http://schemas.openxmlformats.org/officeDocument/2006/relationships/image" Target="../media/image15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63.png"/><Relationship Id="rId4" Type="http://schemas.openxmlformats.org/officeDocument/2006/relationships/image" Target="../media/image16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image" Target="../media/image177.png"/><Relationship Id="rId9" Type="http://schemas.openxmlformats.org/officeDocument/2006/relationships/image" Target="../media/image178.png"/><Relationship Id="rId10" Type="http://schemas.openxmlformats.org/officeDocument/2006/relationships/image" Target="../media/image179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7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vision Properties of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62080" y="213372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6720" y="231444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1800" y="3200400"/>
            <a:ext cx="35528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3880" y="4210200"/>
            <a:ext cx="2143080" cy="43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3880" y="4743360"/>
            <a:ext cx="1533600" cy="438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542960" y="5172120"/>
            <a:ext cx="80028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524560" y="2209680"/>
            <a:ext cx="163836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4819680" y="3228840"/>
            <a:ext cx="424800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405480" y="4038480"/>
            <a:ext cx="1800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400800" y="4562640"/>
            <a:ext cx="1800360" cy="771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6400800" y="5438880"/>
            <a:ext cx="704880" cy="733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45240" y="23144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Dividing Numbers in Scientific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371600"/>
            <a:ext cx="8237520" cy="1008360"/>
            <a:chOff x="304920" y="1371600"/>
            <a:chExt cx="8237520" cy="1008360"/>
          </a:xfrm>
        </p:grpSpPr>
        <p:sp>
          <p:nvSpPr>
            <p:cNvPr id="136" name=""/>
            <p:cNvSpPr/>
            <p:nvPr/>
          </p:nvSpPr>
          <p:spPr>
            <a:xfrm>
              <a:off x="304920" y="1371600"/>
              <a:ext cx="823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implify                                 and write the answer in scientific no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828800" y="1447560"/>
              <a:ext cx="3257640" cy="5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505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981080" y="3200400"/>
            <a:ext cx="150516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67040" y="4114800"/>
            <a:ext cx="2038320" cy="39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986120" y="4562640"/>
            <a:ext cx="1600200" cy="390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1440" y="31240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5040" y="35053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4320" y="3962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967040" y="602460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971720" y="5057640"/>
            <a:ext cx="228600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971720" y="5553000"/>
            <a:ext cx="1752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681440" y="4419720"/>
            <a:ext cx="4321080" cy="752040"/>
            <a:chOff x="4681440" y="4419720"/>
            <a:chExt cx="4321080" cy="752040"/>
          </a:xfrm>
        </p:grpSpPr>
        <p:sp>
          <p:nvSpPr>
            <p:cNvPr id="149" name=""/>
            <p:cNvSpPr/>
            <p:nvPr/>
          </p:nvSpPr>
          <p:spPr>
            <a:xfrm>
              <a:off x="4681440" y="4419720"/>
              <a:ext cx="4321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0.5 in scientific notation as 5 x 10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6433920" y="4724280"/>
              <a:ext cx="2858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4681440" y="5105520"/>
            <a:ext cx="4245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second two terms have the same base, so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1440" y="60958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99480" y="1506600"/>
            <a:ext cx="7758360" cy="3599640"/>
            <a:chOff x="699480" y="1506600"/>
            <a:chExt cx="7758360" cy="3599640"/>
          </a:xfrm>
        </p:grpSpPr>
        <p:sp>
          <p:nvSpPr>
            <p:cNvPr id="154" name=""/>
            <p:cNvSpPr/>
            <p:nvPr/>
          </p:nvSpPr>
          <p:spPr>
            <a:xfrm>
              <a:off x="699480" y="1909800"/>
              <a:ext cx="7758360" cy="31964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can “split up” a quotient of products into a product of quotients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3640" y="15066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2714760"/>
            <a:ext cx="1885680" cy="723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6800" y="4000680"/>
            <a:ext cx="188604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371600"/>
            <a:ext cx="8237520" cy="971640"/>
            <a:chOff x="304920" y="1371600"/>
            <a:chExt cx="8237520" cy="971640"/>
          </a:xfrm>
        </p:grpSpPr>
        <p:sp>
          <p:nvSpPr>
            <p:cNvPr id="160" name=""/>
            <p:cNvSpPr/>
            <p:nvPr/>
          </p:nvSpPr>
          <p:spPr>
            <a:xfrm>
              <a:off x="304920" y="1371600"/>
              <a:ext cx="8237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implify                                  and write the answer in scientific not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871640" y="1400040"/>
              <a:ext cx="333360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4686480" cy="81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28600" y="2971800"/>
            <a:ext cx="1581120" cy="819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147680" y="3962520"/>
            <a:ext cx="180972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133640" y="4495680"/>
            <a:ext cx="164772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1152360" y="5029200"/>
            <a:ext cx="247680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1828800" cy="380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1114560" y="6095880"/>
            <a:ext cx="1533240" cy="38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1440" y="31240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5040" y="35053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4320" y="3962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81440" y="4419720"/>
            <a:ext cx="4321440" cy="752040"/>
            <a:chOff x="4681440" y="4419720"/>
            <a:chExt cx="4321440" cy="752040"/>
          </a:xfrm>
        </p:grpSpPr>
        <p:sp>
          <p:nvSpPr>
            <p:cNvPr id="173" name=""/>
            <p:cNvSpPr/>
            <p:nvPr/>
          </p:nvSpPr>
          <p:spPr>
            <a:xfrm>
              <a:off x="4681440" y="4419720"/>
              <a:ext cx="432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1.1 in scientific notation as 11 x 10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6543720" y="4724280"/>
              <a:ext cx="28584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4681440" y="5105520"/>
            <a:ext cx="4245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second two terms have the same base, so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1440" y="60958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4920" y="1514520"/>
            <a:ext cx="8237520" cy="1922760"/>
            <a:chOff x="304920" y="1514520"/>
            <a:chExt cx="8237520" cy="1922760"/>
          </a:xfrm>
        </p:grpSpPr>
        <p:sp>
          <p:nvSpPr>
            <p:cNvPr id="179" name=""/>
            <p:cNvSpPr/>
            <p:nvPr/>
          </p:nvSpPr>
          <p:spPr>
            <a:xfrm>
              <a:off x="304920" y="151452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 Colorado Department of Education spent about                   dollars in fiscal year 2004-05 on public schools. There were about    students enrolled in public school. What was the average spending per student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71680" y="1881360"/>
              <a:ext cx="1828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6686640" y="227664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822240" y="381636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spending per student, divide the total debt by the number of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14400" y="4791240"/>
            <a:ext cx="4267080" cy="84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914400" y="5629320"/>
            <a:ext cx="2019240" cy="838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27480" y="564516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495440"/>
            <a:ext cx="8237520" cy="1922760"/>
            <a:chOff x="304920" y="1495440"/>
            <a:chExt cx="8237520" cy="1922760"/>
          </a:xfrm>
        </p:grpSpPr>
        <p:sp>
          <p:nvSpPr>
            <p:cNvPr id="188" name=""/>
            <p:cNvSpPr/>
            <p:nvPr/>
          </p:nvSpPr>
          <p:spPr>
            <a:xfrm>
              <a:off x="304920" y="149544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 Colorado Department of Education spent about                   dollars in fiscal year 2004-05 on public schools. There were about    students enrolled in public school. What was the average spending per student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1471680" y="1862280"/>
              <a:ext cx="1828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6686640" y="225756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822240" y="379728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spending per student, divide the total debt by the number of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923760" y="4695840"/>
            <a:ext cx="183852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905040" y="5153040"/>
            <a:ext cx="15429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938160" y="5667480"/>
            <a:ext cx="1143000" cy="32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23560" y="6004080"/>
            <a:ext cx="65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spending per student is $5,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45360" y="46594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44640" y="515304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1760" y="56102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04920" y="1600200"/>
            <a:ext cx="8237520" cy="1557000"/>
            <a:chOff x="304920" y="1600200"/>
            <a:chExt cx="8237520" cy="1557000"/>
          </a:xfrm>
        </p:grpSpPr>
        <p:sp>
          <p:nvSpPr>
            <p:cNvPr id="201" name=""/>
            <p:cNvSpPr/>
            <p:nvPr/>
          </p:nvSpPr>
          <p:spPr>
            <a:xfrm>
              <a:off x="304920" y="1600200"/>
              <a:ext cx="823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 1990, the United States public debt was about                 dollars. The population of the United States was about               people. What was the average debt per person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495440" y="1981080"/>
              <a:ext cx="1562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691160" y="236232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974880" y="35211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debt per person, divide the total debt by the number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081080" y="4410000"/>
            <a:ext cx="4467240" cy="847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057320" y="5334120"/>
            <a:ext cx="176220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27480" y="541008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as a product of quo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57200" y="1600200"/>
            <a:ext cx="8237520" cy="1557000"/>
            <a:chOff x="457200" y="1600200"/>
            <a:chExt cx="8237520" cy="1557000"/>
          </a:xfrm>
        </p:grpSpPr>
        <p:sp>
          <p:nvSpPr>
            <p:cNvPr id="209" name=""/>
            <p:cNvSpPr/>
            <p:nvPr/>
          </p:nvSpPr>
          <p:spPr>
            <a:xfrm>
              <a:off x="457200" y="1600200"/>
              <a:ext cx="823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 1990, the United States public debt was about                 dollars. The population of the United States was about               people. What was the average debt per person? Write your answer in standard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647720" y="1981080"/>
              <a:ext cx="15620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843440" y="2362320"/>
              <a:ext cx="13906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127160" y="35211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the average debt per person, divide the total debt by the number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214280" y="4495680"/>
            <a:ext cx="217188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224000" y="4952880"/>
            <a:ext cx="172404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238400" y="5562720"/>
            <a:ext cx="1333440" cy="32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07200" y="453564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each quo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8280" y="50007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th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5400" y="54864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39280" y="589428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debt per person was $12,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94608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ower of a quotient can be found by first writing the numerator and denominator as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51152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at the exponents in the final answer are the same as the exponent in the original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648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9000" y="255744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29360" y="2604960"/>
            <a:ext cx="50472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9000" y="317664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057480"/>
            <a:ext cx="154296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1114560" cy="46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93680" y="38433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67160" y="3705120"/>
            <a:ext cx="695520" cy="88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78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0"/>
            <a:ext cx="80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in Scientific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123920" y="5162400"/>
            <a:ext cx="1505160" cy="400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7880" y="565308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305080" y="2619360"/>
            <a:ext cx="590400" cy="399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629080" y="3062160"/>
            <a:ext cx="266400" cy="7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590920" y="383364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058080" y="2209680"/>
            <a:ext cx="10285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153200" y="3005280"/>
            <a:ext cx="466920" cy="84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62640" y="3719520"/>
            <a:ext cx="419040" cy="84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2990880" y="5153040"/>
            <a:ext cx="1276200" cy="39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3152880" y="5695920"/>
            <a:ext cx="149544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1143000" y="5672160"/>
            <a:ext cx="173340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1066680" y="3209760"/>
            <a:ext cx="11811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14440" y="2381400"/>
            <a:ext cx="762120" cy="895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447920" y="3448080"/>
            <a:ext cx="1523880" cy="89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71600" y="4524480"/>
            <a:ext cx="73368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65720" y="344484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68240" y="4648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2324160"/>
            <a:ext cx="1190520" cy="1104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5410080"/>
            <a:ext cx="1085760" cy="885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56160" y="304812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56160" y="3809880"/>
            <a:ext cx="4587840" cy="1231920"/>
            <a:chOff x="4556160" y="3809880"/>
            <a:chExt cx="4587840" cy="1231920"/>
          </a:xfrm>
        </p:grpSpPr>
        <p:sp>
          <p:nvSpPr>
            <p:cNvPr id="238" name=""/>
            <p:cNvSpPr/>
            <p:nvPr/>
          </p:nvSpPr>
          <p:spPr>
            <a:xfrm>
              <a:off x="4556160" y="380988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6266160" y="4194000"/>
              <a:ext cx="24955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5008680" y="4603680"/>
              <a:ext cx="2457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590920" y="4495680"/>
            <a:ext cx="1419120" cy="857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447920" y="3429000"/>
            <a:ext cx="23241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4556160" y="5105520"/>
            <a:ext cx="4397400" cy="1199880"/>
            <a:chOff x="4556160" y="5105520"/>
            <a:chExt cx="4397400" cy="1199880"/>
          </a:xfrm>
        </p:grpSpPr>
        <p:grpSp>
          <p:nvGrpSpPr>
            <p:cNvPr id="244" name=""/>
            <p:cNvGrpSpPr/>
            <p:nvPr/>
          </p:nvGrpSpPr>
          <p:grpSpPr>
            <a:xfrm>
              <a:off x="4556160" y="5105520"/>
              <a:ext cx="4397400" cy="850680"/>
              <a:chOff x="4556160" y="5105520"/>
              <a:chExt cx="4397400" cy="850680"/>
            </a:xfrm>
          </p:grpSpPr>
          <p:sp>
            <p:nvSpPr>
              <p:cNvPr id="245" name=""/>
              <p:cNvSpPr/>
              <p:nvPr/>
            </p:nvSpPr>
            <p:spPr>
              <a:xfrm>
                <a:off x="4556160" y="5130720"/>
                <a:ext cx="439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7760" indent="-347760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ff"/>
                    </a:solidFill>
                    <a:latin typeface="Arial"/>
                  </a:rPr>
                  <a:t>Simplify     and use the Power of a Power Propert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1080" y="5105520"/>
                <a:ext cx="390600" cy="390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998960" y="5867280"/>
              <a:ext cx="24955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: Finding Positive Powers of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39960" y="1866960"/>
            <a:ext cx="1447560" cy="118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39960" y="3076560"/>
            <a:ext cx="297180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349360" y="4343400"/>
            <a:ext cx="148608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2373480" y="5372280"/>
            <a:ext cx="1542960" cy="95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56160" y="321624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 of a 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56160" y="4105440"/>
            <a:ext cx="4587840" cy="1228680"/>
            <a:chOff x="4556160" y="4105440"/>
            <a:chExt cx="4587840" cy="1228680"/>
          </a:xfrm>
        </p:grpSpPr>
        <p:sp>
          <p:nvSpPr>
            <p:cNvPr id="256" name=""/>
            <p:cNvSpPr/>
            <p:nvPr/>
          </p:nvSpPr>
          <p:spPr>
            <a:xfrm>
              <a:off x="4556160" y="410544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6261120" y="4505760"/>
              <a:ext cx="25146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5027760" y="4896000"/>
              <a:ext cx="34671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4556160" y="5273640"/>
            <a:ext cx="4435560" cy="1184400"/>
            <a:chOff x="4556160" y="5273640"/>
            <a:chExt cx="4435560" cy="1184400"/>
          </a:xfrm>
        </p:grpSpPr>
        <p:sp>
          <p:nvSpPr>
            <p:cNvPr id="260" name=""/>
            <p:cNvSpPr/>
            <p:nvPr/>
          </p:nvSpPr>
          <p:spPr>
            <a:xfrm>
              <a:off x="4556160" y="5273640"/>
              <a:ext cx="44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308640" y="5648400"/>
              <a:ext cx="23623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4956120" y="6019920"/>
              <a:ext cx="34099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95280" y="2305080"/>
            <a:ext cx="1905120" cy="9525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3886200" y="2457360"/>
            <a:ext cx="4587840" cy="1200240"/>
            <a:chOff x="3886200" y="2457360"/>
            <a:chExt cx="4587840" cy="1200240"/>
          </a:xfrm>
        </p:grpSpPr>
        <p:sp>
          <p:nvSpPr>
            <p:cNvPr id="267" name=""/>
            <p:cNvSpPr/>
            <p:nvPr/>
          </p:nvSpPr>
          <p:spPr>
            <a:xfrm>
              <a:off x="3886200" y="2457360"/>
              <a:ext cx="45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Use the Power  of a Product Propert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4290840" y="3219480"/>
              <a:ext cx="29815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5643360" y="2838600"/>
              <a:ext cx="173376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00200" y="2247840"/>
            <a:ext cx="923760" cy="1104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628640" y="3390840"/>
            <a:ext cx="1876680" cy="1104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590920" y="4676760"/>
            <a:ext cx="1571400" cy="885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975200" y="3429000"/>
            <a:ext cx="41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75200" y="4876920"/>
            <a:ext cx="40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352520" cy="1105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143000" y="2828880"/>
            <a:ext cx="2743200" cy="1447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438280" y="4305240"/>
            <a:ext cx="2028960" cy="952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433600" y="5410080"/>
            <a:ext cx="1343160" cy="885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4648320" y="4324320"/>
            <a:ext cx="4086000" cy="1009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648320" y="5543640"/>
            <a:ext cx="4086000" cy="1009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4648320" y="3119400"/>
            <a:ext cx="4086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1276200" cy="962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10160" y="2819520"/>
            <a:ext cx="4086000" cy="618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990720" y="2695680"/>
            <a:ext cx="2609640" cy="121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286000" y="3924360"/>
            <a:ext cx="140976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286000" y="4838760"/>
            <a:ext cx="971640" cy="79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228600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4610160" y="3733920"/>
            <a:ext cx="4305240" cy="1009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4610160" y="4876920"/>
            <a:ext cx="4038480" cy="1009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>
            <a:off x="4610160" y="6019920"/>
            <a:ext cx="125712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86080" cy="1314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743200" y="2538360"/>
            <a:ext cx="1123920" cy="800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2743200" y="3352680"/>
            <a:ext cx="1085760" cy="800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2757600" y="4076640"/>
            <a:ext cx="657000" cy="800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2766960" y="4862520"/>
            <a:ext cx="924120" cy="8571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152280" y="5638680"/>
            <a:ext cx="3543480" cy="857520"/>
            <a:chOff x="152280" y="5638680"/>
            <a:chExt cx="3543480" cy="857520"/>
          </a:xfrm>
        </p:grpSpPr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1905120" y="5638680"/>
              <a:ext cx="179064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52280" y="58532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for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648320" y="205740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raction as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259092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3581280"/>
            <a:ext cx="44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by the recipr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42670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489276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84080" y="914400"/>
            <a:ext cx="8359920" cy="810000"/>
            <a:chOff x="784080" y="914400"/>
            <a:chExt cx="8359920" cy="810000"/>
          </a:xfrm>
        </p:grpSpPr>
        <p:grpSp>
          <p:nvGrpSpPr>
            <p:cNvPr id="311" name=""/>
            <p:cNvGrpSpPr/>
            <p:nvPr/>
          </p:nvGrpSpPr>
          <p:grpSpPr>
            <a:xfrm>
              <a:off x="784080" y="914400"/>
              <a:ext cx="8359920" cy="723600"/>
              <a:chOff x="784080" y="914400"/>
              <a:chExt cx="8359920" cy="723600"/>
            </a:xfrm>
          </p:grpSpPr>
          <p:sp>
            <p:nvSpPr>
              <p:cNvPr id="312" name=""/>
              <p:cNvSpPr/>
              <p:nvPr/>
            </p:nvSpPr>
            <p:spPr>
              <a:xfrm>
                <a:off x="784080" y="996840"/>
                <a:ext cx="835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emember that               What i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s a fraction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62400" y="914400"/>
                <a:ext cx="1390680" cy="72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4" name=""/>
            <p:cNvSpPr/>
            <p:nvPr/>
          </p:nvSpPr>
          <p:spPr>
            <a:xfrm>
              <a:off x="4572000" y="1143000"/>
              <a:ext cx="3049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817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A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338560" y="4305240"/>
            <a:ext cx="647640" cy="800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523880" y="3181320"/>
            <a:ext cx="1762200" cy="85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523880" y="2286000"/>
            <a:ext cx="838440" cy="847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362320" y="5324400"/>
            <a:ext cx="685800" cy="695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179960" y="3276720"/>
            <a:ext cx="46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267080" y="5486400"/>
            <a:ext cx="3162240" cy="459720"/>
            <a:chOff x="4267080" y="5486400"/>
            <a:chExt cx="3162240" cy="459720"/>
          </a:xfrm>
        </p:grpSpPr>
        <p:pic>
          <p:nvPicPr>
            <p:cNvPr id="324" name="" descr=""/>
            <p:cNvPicPr/>
            <p:nvPr/>
          </p:nvPicPr>
          <p:blipFill>
            <a:blip r:embed="rId5"/>
            <a:stretch/>
          </p:blipFill>
          <p:spPr>
            <a:xfrm>
              <a:off x="4267080" y="5500440"/>
              <a:ext cx="316224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423400" y="548640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175280" y="4191120"/>
            <a:ext cx="45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s of a Quotient Property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905120"/>
            <a:ext cx="8458200" cy="12189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division properties of exponents to evaluate and simplify express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B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218960" cy="961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2448000" cy="961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2362320" y="3591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2362320" y="4857840"/>
            <a:ext cx="1190520" cy="780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2362320" y="5772240"/>
            <a:ext cx="857160" cy="780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4248000" y="2619360"/>
            <a:ext cx="474372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4248000" y="3581280"/>
            <a:ext cx="4096080" cy="619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4248000" y="4896000"/>
            <a:ext cx="4019760" cy="666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4248000" y="5867280"/>
            <a:ext cx="37436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C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33520" y="2314440"/>
            <a:ext cx="2133360" cy="885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800600" y="3139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each fraction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90400" y="3152880"/>
            <a:ext cx="4019760" cy="8856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671920" y="4067280"/>
            <a:ext cx="1904760" cy="1038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800600" y="405432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666880" y="5181480"/>
            <a:ext cx="1600200" cy="838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00600" y="48769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3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(2n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= 3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nd (2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(6m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6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19520" y="3152880"/>
            <a:ext cx="1733400" cy="8096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759400" y="4038480"/>
            <a:ext cx="1830600" cy="1602000"/>
            <a:chOff x="2759400" y="4038480"/>
            <a:chExt cx="1830600" cy="1602000"/>
          </a:xfrm>
        </p:grpSpPr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2811240" y="4395960"/>
              <a:ext cx="173340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flipH="1">
              <a:off x="2992320" y="449568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5360" y="42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51280" y="5148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20760" y="489096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59400" y="49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678120" y="4495680"/>
              <a:ext cx="3045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32200" y="419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9920" y="403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630240" y="4924440"/>
              <a:ext cx="3805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06720" y="5181480"/>
              <a:ext cx="304560" cy="228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6200" y="5272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830400" y="4224240"/>
              <a:ext cx="304560" cy="228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699160" y="435924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out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819520" y="55148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C: Finding Negative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01680" y="5791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00960" y="327672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quare and cube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374760" y="1938240"/>
            <a:ext cx="7854840" cy="1254240"/>
            <a:chOff x="374760" y="1938240"/>
            <a:chExt cx="7854840" cy="1254240"/>
          </a:xfrm>
        </p:grpSpPr>
        <p:sp>
          <p:nvSpPr>
            <p:cNvPr id="370" name=""/>
            <p:cNvSpPr/>
            <p:nvPr/>
          </p:nvSpPr>
          <p:spPr>
            <a:xfrm>
              <a:off x="380880" y="236700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ever all of the factors in the numerator or the denominator divide out, replace them with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4760" y="193824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19320" y="2247840"/>
            <a:ext cx="1009440" cy="876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314360" y="3191040"/>
            <a:ext cx="2038320" cy="100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2343240" y="4362480"/>
            <a:ext cx="857160" cy="971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2347920" y="5438880"/>
            <a:ext cx="1600200" cy="8096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060880" y="5486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9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729 and 4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13360" y="430704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13360" y="321624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3520" y="2247840"/>
            <a:ext cx="1409760" cy="8762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33520" y="3162240"/>
            <a:ext cx="2752560" cy="1028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909800" y="4172040"/>
            <a:ext cx="1352520" cy="1162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905120" y="5353200"/>
            <a:ext cx="2266920" cy="819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800600" y="30481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5213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ower Property: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•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•4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12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nd (2a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2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= 16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0696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2133720" cy="1028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52480" y="2743200"/>
            <a:ext cx="3933720" cy="10288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105520" y="28954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each fraction with a positive expo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895480" y="4819680"/>
            <a:ext cx="1266840" cy="743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05520" y="382572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857680" y="3724200"/>
            <a:ext cx="1485720" cy="100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105520" y="47242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Use the Power of a Product Property: (3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895480" y="5638680"/>
            <a:ext cx="6035760" cy="874800"/>
            <a:chOff x="2895480" y="5638680"/>
            <a:chExt cx="6035760" cy="874800"/>
          </a:xfrm>
        </p:grpSpPr>
        <p:sp>
          <p:nvSpPr>
            <p:cNvPr id="400" name=""/>
            <p:cNvSpPr/>
            <p:nvPr/>
          </p:nvSpPr>
          <p:spPr>
            <a:xfrm>
              <a:off x="5105520" y="563868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Add exponents and divide out common term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95480" y="5751360"/>
              <a:ext cx="1838160" cy="762120"/>
              <a:chOff x="2895480" y="5751360"/>
              <a:chExt cx="1838160" cy="762120"/>
            </a:xfrm>
          </p:grpSpPr>
          <p:pic>
            <p:nvPicPr>
              <p:cNvPr id="4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5770440"/>
                <a:ext cx="183816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flipH="1">
                <a:off x="3433320" y="5751360"/>
                <a:ext cx="152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176280" y="6208560"/>
                <a:ext cx="15264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128600"/>
            <a:ext cx="762012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00320" cy="819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648320" y="2095560"/>
            <a:ext cx="819000" cy="952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114800" y="2286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868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990720" y="4152960"/>
            <a:ext cx="1838160" cy="1028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790640" y="23050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2362320" y="3352680"/>
            <a:ext cx="533160" cy="428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643280" y="3200400"/>
            <a:ext cx="1076400" cy="876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6095880" y="3209760"/>
            <a:ext cx="847800" cy="819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2962440" y="4362480"/>
            <a:ext cx="771480" cy="7430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5791320" y="2104920"/>
            <a:ext cx="428400" cy="838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/>
          <a:stretch/>
        </p:blipFill>
        <p:spPr>
          <a:xfrm>
            <a:off x="990720" y="3124080"/>
            <a:ext cx="114300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8680" y="16765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4080" y="250668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y (3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÷ (5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nd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41880" y="28954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0400" y="3581280"/>
            <a:ext cx="79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public of Botswana has an area of 6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quare kilometers. Its population is about 1.6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What is the population density of Botswana? Write your answer in standar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80120" y="507672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.7 people/k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1219320"/>
            <a:ext cx="813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otient of powers with the same base can be found by writing the powers in a factored form and dividing out common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646520"/>
            <a:ext cx="816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relationship between the exponents in the original quotient and the exponent in the final answer: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 –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6514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81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Quotient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00" y="2886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438120" cy="84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38005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04960" y="4714920"/>
            <a:ext cx="1419120" cy="39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71840" y="28861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829480" y="2657520"/>
            <a:ext cx="495000" cy="847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872320" y="3800520"/>
            <a:ext cx="150480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400800" y="4648320"/>
            <a:ext cx="1276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06560" y="243828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7520" y="2622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Quotient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30320" y="3429000"/>
            <a:ext cx="194292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20960" y="4410000"/>
            <a:ext cx="1866960" cy="3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20960" y="4943520"/>
            <a:ext cx="1200240" cy="39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06560" y="5477040"/>
            <a:ext cx="847800" cy="39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610160" y="2514600"/>
            <a:ext cx="16383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31560" y="26240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4591080" y="3581280"/>
            <a:ext cx="41720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186600" y="4467240"/>
            <a:ext cx="198108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6186600" y="4896000"/>
            <a:ext cx="1009440" cy="85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205680" y="5772240"/>
            <a:ext cx="1009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74760" y="1828800"/>
            <a:ext cx="7854840" cy="1478160"/>
            <a:chOff x="374760" y="1828800"/>
            <a:chExt cx="7854840" cy="1478160"/>
          </a:xfrm>
        </p:grpSpPr>
        <p:sp>
          <p:nvSpPr>
            <p:cNvPr id="106" name=""/>
            <p:cNvSpPr/>
            <p:nvPr/>
          </p:nvSpPr>
          <p:spPr>
            <a:xfrm>
              <a:off x="380880" y="2291040"/>
              <a:ext cx="7848720" cy="10159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oth    and 729 are considered to be simplifi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760" y="182880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040" y="2362320"/>
            <a:ext cx="1333440" cy="39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2440" y="2867040"/>
            <a:ext cx="352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438120" cy="84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85840" y="33433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57440" y="4267080"/>
            <a:ext cx="1238040" cy="38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00840" y="3276720"/>
            <a:ext cx="146664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000840" y="236232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008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519960" y="3962520"/>
            <a:ext cx="1609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23:15Z</dcterms:modified>
  <cp:revision>53</cp:revision>
  <dc:subject/>
  <dc:title>Slide 1</dc:title>
</cp:coreProperties>
</file>